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.wmf" ContentType="image/x-wmf"/>
  <Override PartName="/ppt/media/image3.wmf" ContentType="image/x-wmf"/>
  <Override PartName="/ppt/media/image12.wmf" ContentType="image/x-wmf"/>
  <Override PartName="/ppt/media/image4.png" ContentType="image/png"/>
  <Override PartName="/ppt/media/image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8.wmf" ContentType="image/x-wmf"/>
  <Override PartName="/ppt/media/image9.wmf" ContentType="image/x-wmf"/>
  <Override PartName="/ppt/media/image5.png" ContentType="image/png"/>
  <Override PartName="/ppt/media/image13.wmf" ContentType="image/x-wmf"/>
  <Override PartName="/ppt/media/image10.jpeg" ContentType="image/jpe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17CF-B3C0-4F24-96A0-D37BC572EC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AFFC-687A-47B5-A438-D92993FE3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A461-5F4A-4340-B5FB-4B7DF82BC5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B6D8-BF24-498B-9043-09AF3F4FF9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993F-EE86-4F46-87F7-DD644EEB2C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7714-325E-417D-837C-54269864FE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0192-1E16-4D96-85E6-222142C419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4EDE-FF24-4BFC-A264-6B3595CD60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A862-064C-48CE-AE1D-4AEE4C4ED5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DFA9-D1B6-407A-964A-A7144B92B4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0E10-6D9D-4E6E-8B42-840CF4D246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EBF5-E34A-44B7-86A7-563453D9CE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futur proch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228600" y="312408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6324480" y="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25a28"/>
                </a:solidFill>
                <a:latin typeface="Times New Roman"/>
              </a:rPr>
              <a:t>Tu choisis un pull plus petit.</a:t>
            </a: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09480" y="5043600"/>
            <a:ext cx="784872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339966"/>
                </a:solidFill>
                <a:latin typeface="Tahoma"/>
              </a:rPr>
              <a:t>Tu vas choisir un pull plus pet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C:\Documents and Settings\Michael\Local Settings\Temporary Internet Files\Content.IE5\UNJL8L70\MC900232986[1].wmf"/>
          <p:cNvPicPr/>
          <p:nvPr/>
        </p:nvPicPr>
        <p:blipFill>
          <a:blip r:embed="rId1"/>
          <a:stretch/>
        </p:blipFill>
        <p:spPr>
          <a:xfrm>
            <a:off x="3505320" y="2819520"/>
            <a:ext cx="22860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25a28"/>
                </a:solidFill>
                <a:latin typeface="Times New Roman"/>
              </a:rPr>
              <a:t>Vous maigrissez beaucoup.</a:t>
            </a: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62120" y="4800600"/>
            <a:ext cx="784836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339966"/>
                </a:solidFill>
                <a:latin typeface="Tahoma"/>
              </a:rPr>
              <a:t>Vous allez maigrir beauco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C:\Documents and Settings\Michael\Local Settings\Temporary Internet Files\Content.IE5\M6N0CPZS\MC900389120[1].wmf"/>
          <p:cNvPicPr/>
          <p:nvPr/>
        </p:nvPicPr>
        <p:blipFill>
          <a:blip r:embed="rId1"/>
          <a:stretch/>
        </p:blipFill>
        <p:spPr>
          <a:xfrm>
            <a:off x="3657600" y="2895480"/>
            <a:ext cx="1857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 futur proch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240" y="2147400"/>
            <a:ext cx="754380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our exprimer un événement dans le future on utilis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25a28"/>
                </a:solidFill>
                <a:latin typeface="Times New Roman"/>
              </a:rPr>
              <a:t>le futur proche (the near future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 futur proche utilise le verbe 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25a28"/>
                </a:solidFill>
                <a:latin typeface="Times New Roman"/>
              </a:rPr>
              <a:t>ALLER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 Futur proch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600200" y="161424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conjugaisons pour ALLER sont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676520" y="2452680"/>
            <a:ext cx="320040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je v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tu 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il/elle/on 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181480" y="2438280"/>
            <a:ext cx="335304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nous all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vous all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ils/elles vo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C:\Documents and Settings\Michael\Local Settings\Temporary Internet Files\Content.IE5\1X2V9UFE\MC900440348[1].png"/>
          <p:cNvPicPr/>
          <p:nvPr/>
        </p:nvPicPr>
        <p:blipFill>
          <a:blip r:embed="rId7"/>
          <a:stretch/>
        </p:blipFill>
        <p:spPr>
          <a:xfrm>
            <a:off x="3276720" y="4267080"/>
            <a:ext cx="36576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 Futur proch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1599840"/>
            <a:ext cx="777240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our former le futur proche, utilisez une forme d’ALLER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905120" y="3719520"/>
            <a:ext cx="17524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ahoma"/>
              </a:rPr>
              <a:t>Je v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95280" y="2666880"/>
            <a:ext cx="7772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uis, ajouter un verbe à l’infiniti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505320" y="3719520"/>
            <a:ext cx="54100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cc"/>
                </a:solidFill>
                <a:latin typeface="Tahoma"/>
              </a:rPr>
              <a:t>regarder la télé ce soi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1066680" y="4419720"/>
            <a:ext cx="8382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cc0000"/>
                </a:solidFill>
                <a:latin typeface="Tahoma"/>
              </a:rPr>
              <a:t>I am going</a:t>
            </a: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4000" spc="-1" strike="noStrike">
                <a:solidFill>
                  <a:srgbClr val="0033cc"/>
                </a:solidFill>
                <a:latin typeface="Tahoma"/>
              </a:rPr>
              <a:t>to watch TV to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C:\Documents and Settings\Michael\Local Settings\Temporary Internet Files\Content.IE5\KKLOUJEO\MC900060244[1].wmf"/>
          <p:cNvPicPr/>
          <p:nvPr/>
        </p:nvPicPr>
        <p:blipFill>
          <a:blip r:embed="rId2"/>
          <a:stretch/>
        </p:blipFill>
        <p:spPr>
          <a:xfrm>
            <a:off x="6019920" y="4952880"/>
            <a:ext cx="1812960" cy="1570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C:\Documents and Settings\Michael\Local Settings\Temporary Internet Files\Content.IE5\1X2V9UFE\MC900431514[1].png"/>
          <p:cNvPicPr/>
          <p:nvPr/>
        </p:nvPicPr>
        <p:blipFill>
          <a:blip r:embed="rId3"/>
          <a:stretch/>
        </p:blipFill>
        <p:spPr>
          <a:xfrm>
            <a:off x="26668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 Futur proch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71600" y="1676520"/>
            <a:ext cx="777240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ntenant, récrivez ces phrases au futur proch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25a28"/>
                </a:solidFill>
                <a:latin typeface="Times New Roman"/>
              </a:rPr>
              <a:t>Je joue au foot.</a:t>
            </a: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85800" y="4510080"/>
            <a:ext cx="77724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339966"/>
                </a:solidFill>
                <a:latin typeface="Tahoma"/>
              </a:rPr>
              <a:t>Je vais jouer au foo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3583080" y="2914560"/>
            <a:ext cx="18270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25a28"/>
                </a:solidFill>
                <a:latin typeface="Times New Roman"/>
              </a:rPr>
              <a:t>Il mange le dessert.</a:t>
            </a: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85800" y="4281480"/>
            <a:ext cx="77724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339966"/>
                </a:solidFill>
                <a:latin typeface="Tahoma"/>
              </a:rPr>
              <a:t>Il va manger le desse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:\Documents and Settings\Michael\Local Settings\Temporary Internet Files\Content.IE5\M6N0CPZS\MC900388794[1].wmf"/>
          <p:cNvPicPr/>
          <p:nvPr/>
        </p:nvPicPr>
        <p:blipFill>
          <a:blip r:embed="rId1"/>
          <a:stretch/>
        </p:blipFill>
        <p:spPr>
          <a:xfrm>
            <a:off x="3505320" y="2854440"/>
            <a:ext cx="24336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25a28"/>
                </a:solidFill>
                <a:latin typeface="Times New Roman"/>
              </a:rPr>
              <a:t>Elles écoutent la musique.</a:t>
            </a: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09480" y="4586400"/>
            <a:ext cx="784872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339966"/>
                </a:solidFill>
                <a:latin typeface="Tahoma"/>
              </a:rPr>
              <a:t>Elles vont écouter la musi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C:\Documents and Settings\Michael\Local Settings\Temporary Internet Files\Content.IE5\KKLOUJEO\MC900447160[1].jpg"/>
          <p:cNvPicPr/>
          <p:nvPr/>
        </p:nvPicPr>
        <p:blipFill>
          <a:blip r:embed="rId1"/>
          <a:stretch/>
        </p:blipFill>
        <p:spPr>
          <a:xfrm>
            <a:off x="3657600" y="2895480"/>
            <a:ext cx="22096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25a28"/>
                </a:solidFill>
                <a:latin typeface="Times New Roman"/>
              </a:rPr>
              <a:t>Nous faisons les magasins.</a:t>
            </a: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38080" y="4724280"/>
            <a:ext cx="784872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339966"/>
                </a:solidFill>
                <a:latin typeface="Tahoma"/>
              </a:rPr>
              <a:t>Nous allons faire les maga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Documents and Settings\Michael\Local Settings\Temporary Internet Files\Content.IE5\85PZP2BU\MC900441576[1].wmf"/>
          <p:cNvPicPr/>
          <p:nvPr/>
        </p:nvPicPr>
        <p:blipFill>
          <a:blip r:embed="rId1"/>
          <a:stretch/>
        </p:blipFill>
        <p:spPr>
          <a:xfrm>
            <a:off x="3637080" y="2752560"/>
            <a:ext cx="3144600" cy="22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24T14:06:58Z</dcterms:modified>
  <cp:revision>79</cp:revision>
  <dc:subject/>
  <dc:title>Allez, viens! – Level 2</dc:title>
</cp:coreProperties>
</file>